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81D-37B9-4704-83D9-0299EAD7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8D1-5F1B-4C92-8683-252496B5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064-8DBF-4E31-ABDD-224F78DB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730-AE24-4F3B-8057-58F5AD60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FDE-F918-4B72-BD16-8C9F1A50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481-04B7-4B66-A364-CB02434F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0B7-F17B-40B9-93FC-293C3359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04F-6B53-45BB-8D7A-9665AEE7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800-D5C7-40E7-B230-8FE23935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F7C-14A7-4156-AC17-FB88C572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7B7-AD88-4702-91A2-466A2947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2B5-2561-4ABB-B036-9CA99E2F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6D7F-76D1-4E9A-BD18-63613E8E9694}" type="slidenum">
              <a:rPr b="0" lang="ar-Q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76320" y="82440"/>
            <a:ext cx="6629400" cy="24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 Sheet #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133720" y="430200"/>
            <a:ext cx="205740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000080">
                    <a:alpha val="7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ctivity 2</a:t>
            </a:r>
            <a:endParaRPr b="0" lang="en-US" sz="1800" spc="1" strike="noStrike">
              <a:ln w="12600">
                <a:solidFill>
                  <a:srgbClr val="bbe0e3"/>
                </a:solidFill>
                <a:miter/>
              </a:ln>
              <a:solidFill>
                <a:srgbClr val="000080">
                  <a:alpha val="7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752480" y="92556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  <a:ea typeface="Aharoni"/>
              </a:rPr>
              <a:t>Understanding the 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23820752"/>
          <p:cNvPicPr/>
          <p:nvPr/>
        </p:nvPicPr>
        <p:blipFill>
          <a:blip r:embed="rId1"/>
          <a:stretch/>
        </p:blipFill>
        <p:spPr>
          <a:xfrm>
            <a:off x="290520" y="368280"/>
            <a:ext cx="1309680" cy="12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2"/>
          <a:srcRect l="0" t="4700" r="0" b="0"/>
          <a:stretch/>
        </p:blipFill>
        <p:spPr>
          <a:xfrm>
            <a:off x="0" y="1816200"/>
            <a:ext cx="6858000" cy="7842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2362320" y="526428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3200400" y="2476440"/>
            <a:ext cx="609480" cy="330120"/>
          </a:xfrm>
          <a:prstGeom prst="rightArrow">
            <a:avLst>
              <a:gd name="adj1" fmla="val 50000"/>
              <a:gd name="adj2" fmla="val 46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"/>
          <p:cNvSpPr/>
          <p:nvPr/>
        </p:nvSpPr>
        <p:spPr>
          <a:xfrm>
            <a:off x="5867280" y="3467160"/>
            <a:ext cx="304920" cy="660240"/>
          </a:xfrm>
          <a:prstGeom prst="downArrow">
            <a:avLst>
              <a:gd name="adj1" fmla="val 50000"/>
              <a:gd name="adj2" fmla="val 541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5943600" y="7429680"/>
            <a:ext cx="304920" cy="660240"/>
          </a:xfrm>
          <a:prstGeom prst="downArrow">
            <a:avLst>
              <a:gd name="adj1" fmla="val 50000"/>
              <a:gd name="adj2" fmla="val 541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 flipH="1">
            <a:off x="3124080" y="8585280"/>
            <a:ext cx="609840" cy="330120"/>
          </a:xfrm>
          <a:prstGeom prst="rightArrow">
            <a:avLst>
              <a:gd name="adj1" fmla="val 50000"/>
              <a:gd name="adj2" fmla="val 461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"/>
          <p:cNvSpPr/>
          <p:nvPr/>
        </p:nvSpPr>
        <p:spPr>
          <a:xfrm flipV="1">
            <a:off x="685800" y="7346160"/>
            <a:ext cx="304920" cy="660600"/>
          </a:xfrm>
          <a:prstGeom prst="downArrow">
            <a:avLst>
              <a:gd name="adj1" fmla="val 50000"/>
              <a:gd name="adj2" fmla="val 54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-76320" y="22273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blem statement and formulation of a Research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657600" y="1981080"/>
            <a:ext cx="2895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vestigable hypothesis (best guess or  possible answer) to the Research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800600" y="5118120"/>
            <a:ext cx="2133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ological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4038480" y="833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457200" y="833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nalysis  and 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228600" y="47689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 and creation of new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9:36:14Z</dcterms:created>
  <dc:creator>Gene</dc:creator>
  <dc:description/>
  <dc:language>en-US</dc:language>
  <cp:lastModifiedBy>Gene</cp:lastModifiedBy>
  <dcterms:modified xsi:type="dcterms:W3CDTF">2008-01-19T09:37:13Z</dcterms:modified>
  <cp:revision>1</cp:revision>
  <dc:subject/>
  <dc:title>Slide 1</dc:title>
</cp:coreProperties>
</file>